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40309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1680" y="15235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030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1680" y="4030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6200" y="15235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400" y="15235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4030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6200" y="4030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400" y="4030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1680" y="15235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391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1680" y="15235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4030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5235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1680" y="4030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5235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40309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summit_bkgd-bird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0"/>
          <p:cNvSpPr/>
          <p:nvPr/>
        </p:nvSpPr>
        <p:spPr>
          <a:xfrm>
            <a:off x="26510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XML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lvio Belini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cal Services Team Member/4D, In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Syntax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152352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Syntax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archical structure (Tre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Syntax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archical structure (Tree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oo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hil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child&gt;.....&lt;/subchil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hil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oo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Syntax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ing/Closing Ta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Syntax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ing/Closing Ta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e sen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Syntax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ing/Closing Ta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e sen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ly nes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Syntax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ing/Closing Ta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e sen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ly nes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one ro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Syntax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Syntax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4264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oo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hil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child1&gt;.....&lt;/subchild1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child2 /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hil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oo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Syntax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Syntax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1430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ile type="gif"&gt;mypic.gif&lt;/fil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Validation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 form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Validation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 form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Validation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id XML docu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Validation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id XML docu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Validation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id XML docu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DOCTYPE root [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child (subchild1,subchild2)&gt; &lt;!ELEMENT subchild1 (#PCDATA)&gt; &lt;!ELEMENT subchild2 (#PCDATA)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]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Validation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id XML docu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Validation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426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id XML docu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element name=“not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complex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element name="to” type="xs:string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element name=“from" type="xs:string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:elem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Manipulating XML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Manipulating XML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 (Document Object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nsible Markup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Manipulating XML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 (Document Object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s structure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Manipulating XML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 (Document Object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s structure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fast sourc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Manipulating XML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 (Document Object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s structure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fast sourc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random order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Manipulating XML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 (Document Object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s structure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fast sourc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random order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annot work with larg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Manipulating XML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 (Document Object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s structure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fast sourc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random order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annot work with larg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emory capac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Manipulating XML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Manipulating XML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X (Simple API for XM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Manipulating XML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43000" y="152352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X (Simple API for XM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s documents node by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Manipulating XML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426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X (Simple API for XM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s documents node by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doesn’t load the whole document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Manipulating XML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426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X (Simple API for XM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s documents node by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doesn’t load the whole document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inear fash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nsible Markup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 to create structured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Manipulating XML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426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X (Simple API for XM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s documents node by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doesn’t load the whole document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inear fash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ead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Uses within 4D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Uses within 4D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/Export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Uses within 4D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/Export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/Expor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Uses within 4D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/Export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/Expor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X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Uses within 4D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/Export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/Expor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XSL (Extensible Stylesheet Langu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Uses within 4D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/Export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/Expor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XSL (Extensible Stylesheet Langu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ML Keys (application build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Uses within 4D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/Export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/Expor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XSL (Extensible Stylesheet Langu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ML Keys (application build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VG (Scalable Vector Graphic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Uses within 4D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/Export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/Expor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XSL (Extensible Stylesheet Langu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ML Keys (application build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VG (Scalable Vector Graphic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c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Questions ?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nsible Markup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 to create structured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tform Independent Data Ex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Uses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52352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Uses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Uses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Development (XSL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Uses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Development (XSL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bas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3:01:41Z</dcterms:created>
  <dc:creator>Silvio Belini</dc:creator>
  <dc:description/>
  <dc:language>en-US</dc:language>
  <cp:lastModifiedBy>Sony Customer</cp:lastModifiedBy>
  <cp:lastPrinted>2000-07-31T21:36:51Z</cp:lastPrinted>
  <dcterms:modified xsi:type="dcterms:W3CDTF">2008-10-03T17:13:20Z</dcterms:modified>
  <cp:revision>84</cp:revision>
  <dc:subject>XML Intro and Uses within 4D</dc:subject>
  <dc:title>XML</dc:title>
</cp:coreProperties>
</file>