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79FB-C4D4-42CE-9D04-5AD24554C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539A-5411-453A-807B-06B2FEFE3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565960"/>
            <a:ext cx="1046484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5106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361960"/>
            <a:ext cx="5106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565960"/>
            <a:ext cx="5106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565960"/>
            <a:ext cx="5106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3369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361960"/>
            <a:ext cx="3369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361960"/>
            <a:ext cx="3369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565960"/>
            <a:ext cx="3369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565960"/>
            <a:ext cx="3369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565960"/>
            <a:ext cx="3369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510660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361960"/>
            <a:ext cx="510660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5106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361960"/>
            <a:ext cx="510660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565960"/>
            <a:ext cx="5106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510660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361960"/>
            <a:ext cx="5106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565960"/>
            <a:ext cx="5106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5106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361960"/>
            <a:ext cx="510660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565960"/>
            <a:ext cx="10464840" cy="292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ummit_bkgd-birds.jpg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800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4948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4948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4948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3796560" y="2590920"/>
            <a:ext cx="566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troduction to JavaScrip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445000" y="7620120"/>
            <a:ext cx="2114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 Kaufma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D, Inc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S Code In Separate Fi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057400"/>
            <a:ext cx="37083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fi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Library.js fi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30720" y="2209680"/>
            <a:ext cx="6248520" cy="3179160"/>
          </a:xfrm>
          <a:prstGeom prst="rect">
            <a:avLst/>
          </a:prstGeom>
          <a:solidFill>
            <a:srgbClr val="00f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html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head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c4"/>
                </a:solidFill>
                <a:latin typeface="Arial"/>
              </a:rPr>
              <a:t>&lt;script src=“js/myLibrary.js” /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head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9320" y="6934320"/>
            <a:ext cx="5791320" cy="1462680"/>
          </a:xfrm>
          <a:prstGeom prst="rect">
            <a:avLst/>
          </a:prstGeom>
          <a:solidFill>
            <a:srgbClr val="00f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myFunc() {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ata Types and Variab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2362320"/>
            <a:ext cx="10464840" cy="320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perators and Statem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stat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al stat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al oper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ical oper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urn val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onymous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s as o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nd system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nt handl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rowser Objec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 Object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OM 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ja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I us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jax frame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D Ajax Framewor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tting a data grid on a web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at is Java Script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(or “scripting”?)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r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sely typ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t object-oriented programming is d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549440" y="411480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244520" y="380880"/>
            <a:ext cx="1036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troduction to JavaScrip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rigins of JavaScrip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01720" y="2438280"/>
            <a:ext cx="3721320" cy="560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88160" y="1828800"/>
            <a:ext cx="2814840" cy="2971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5511960" y="3809880"/>
            <a:ext cx="182880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569360" y="6019920"/>
            <a:ext cx="2971800" cy="2361960"/>
            <a:chOff x="7569360" y="6019920"/>
            <a:chExt cx="2971800" cy="2361960"/>
          </a:xfrm>
        </p:grpSpPr>
        <p:sp>
          <p:nvSpPr>
            <p:cNvPr id="55" name=""/>
            <p:cNvSpPr/>
            <p:nvPr/>
          </p:nvSpPr>
          <p:spPr>
            <a:xfrm>
              <a:off x="7569360" y="6019920"/>
              <a:ext cx="2971800" cy="2361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73920" y="6629040"/>
              <a:ext cx="236232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Other browsers</a:t>
              </a: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5511960" y="6248520"/>
            <a:ext cx="190476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ere Is JavaScript Used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-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63840" y="6324480"/>
            <a:ext cx="3657600" cy="142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950240" y="6095880"/>
            <a:ext cx="396252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130720" y="2133720"/>
            <a:ext cx="28177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at Can JavaScript Do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361960"/>
            <a:ext cx="104648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ally change HTML on an already loaded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d to events (like a mouse rollover or a key pres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idate data in an HTML for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97360" y="4876920"/>
            <a:ext cx="8686800" cy="38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at can it do?  (Cont.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44160" y="2362320"/>
            <a:ext cx="10464840" cy="259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ct and correct for browser incompatibil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nd read cookies (for session mgm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-449280">
              <a:spcBef>
                <a:spcPts val="2599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se and send XML requests (now an Ajax stap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92440" y="5713560"/>
            <a:ext cx="7086600" cy="2559960"/>
          </a:xfrm>
          <a:prstGeom prst="rect">
            <a:avLst/>
          </a:prstGeom>
          <a:solidFill>
            <a:srgbClr val="00f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lt;address type=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”&gt;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&lt;street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34 Main St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lt;/street&gt;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&lt;city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lt;/city&gt;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&lt;state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lt;/state&gt;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&lt;zip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128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lt;/zip&gt;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lt;/address&gt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velopment Tools Require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73120" y="2736720"/>
            <a:ext cx="4038480" cy="4502520"/>
            <a:chOff x="1473120" y="2736720"/>
            <a:chExt cx="4038480" cy="45025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473120" y="2736720"/>
              <a:ext cx="4038480" cy="39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555560" y="6812280"/>
              <a:ext cx="370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Modern Browser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045120" y="3322800"/>
            <a:ext cx="5867280" cy="3915000"/>
            <a:chOff x="6045120" y="3322800"/>
            <a:chExt cx="5867280" cy="39150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6045120" y="3322800"/>
              <a:ext cx="586728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349680" y="6810840"/>
              <a:ext cx="4953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ext Editor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commended Debugging Too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1452" b="0"/>
          <a:stretch/>
        </p:blipFill>
        <p:spPr>
          <a:xfrm>
            <a:off x="1701720" y="2362320"/>
            <a:ext cx="10058400" cy="61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S Code Inside HTM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16120" y="1828440"/>
            <a:ext cx="7035840" cy="7048440"/>
          </a:xfrm>
          <a:prstGeom prst="rect">
            <a:avLst/>
          </a:prstGeom>
          <a:solidFill>
            <a:srgbClr val="00f2ec"/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232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html&gt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head&gt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c4"/>
                </a:solidFill>
                <a:latin typeface="Arial"/>
              </a:rPr>
              <a:t>&lt;script&gt;</a:t>
            </a:r>
            <a:br>
              <a:rPr sz="3000"/>
            </a:br>
            <a:r>
              <a:rPr b="0" lang="en-US" sz="3000" spc="-1" strike="noStrike">
                <a:solidFill>
                  <a:srgbClr val="0000c4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&lt;!--</a:t>
            </a:r>
            <a:br>
              <a:rPr sz="3000"/>
            </a:br>
            <a:r>
              <a:rPr b="0" lang="en-US" sz="3000" spc="-1" strike="noStrike">
                <a:solidFill>
                  <a:srgbClr val="0000c4"/>
                </a:solidFill>
                <a:latin typeface="Arial"/>
              </a:rPr>
              <a:t>        function myFunc() {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c4"/>
                </a:solidFill>
                <a:latin typeface="Arial"/>
              </a:rPr>
              <a:t>        }</a:t>
            </a:r>
            <a:br>
              <a:rPr sz="3000"/>
            </a:br>
            <a:r>
              <a:rPr b="0" lang="en-US" sz="3000" spc="-1" strike="noStrike">
                <a:solidFill>
                  <a:srgbClr val="0000c4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--&gt;</a:t>
            </a:r>
            <a:br>
              <a:rPr sz="3000"/>
            </a:br>
            <a:r>
              <a:rPr b="0" lang="en-US" sz="3000" spc="-1" strike="noStrike">
                <a:solidFill>
                  <a:srgbClr val="0000c4"/>
                </a:solidFill>
                <a:latin typeface="Arial"/>
              </a:rPr>
              <a:t>    &lt;/script&gt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head&gt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body&gt;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232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8:49:22Z</dcterms:created>
  <dc:creator/>
  <dc:description/>
  <cp:keywords/>
  <dc:language>en-US</dc:language>
  <cp:lastModifiedBy>timkman</cp:lastModifiedBy>
  <dcterms:modified xsi:type="dcterms:W3CDTF">2008-10-03T15:42:31Z</dcterms:modified>
  <cp:revision>243</cp:revision>
  <dc:subject/>
  <dc:title>Slide 1</dc:title>
</cp:coreProperties>
</file>