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180040" y="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/03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680" y="51408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37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1FE4C-9E59-480F-8590-8469C93FC0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37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4030200"/>
            <a:ext cx="73137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0960" y="152352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03020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0960" y="403020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547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5840" y="1523520"/>
            <a:ext cx="23547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8680" y="1523520"/>
            <a:ext cx="23547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4030200"/>
            <a:ext cx="23547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5840" y="4030200"/>
            <a:ext cx="23547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8680" y="4030200"/>
            <a:ext cx="23547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137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376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0960" y="1523520"/>
            <a:ext cx="3569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3897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960" y="1523520"/>
            <a:ext cx="3569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403020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0960" y="152352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0960" y="403020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0960" y="1523520"/>
            <a:ext cx="356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4030200"/>
            <a:ext cx="73137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389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1376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6510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d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tanas Atanassov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chnical Service Team Member 4D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dexes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key typ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quential - last record has the highest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n-sequential - The value is not related to the table or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nique - The value is unique for the fie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AT IS NEW IN 4D v11 SQ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82880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28 Billion keys per table (from 16 Million)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dex / data separ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t index, Create index, Delete ind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AT IS NEW IN 4D v11 SQ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Query Plan and Query P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grity check with MS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ommand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reate Index(aTable;field_a;indType;IndName)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lete Index(fieldPtr;indexName)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t Index(aField;index)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0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6668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Demonstration Set Index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676520"/>
            <a:ext cx="8534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et Last Query Path(descFormat) -&gt;Str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et Las Query Plan(descFormat)-&gt;Str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be Query Execution(status)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Query Processor Architec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11800" cy="47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Query Plan and Query Path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76280" y="1600200"/>
            <a:ext cx="6391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VAILABLE INDEXES IN 4D v11 SQ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-tree ind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lustered B-Tree ind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ay of long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osite ind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yword ind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omatic ind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-tree ind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ession Workflow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y inde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dexes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is new in v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vailable indexes in v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600200"/>
            <a:ext cx="8380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B-Tree structure in 4D v11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828800"/>
            <a:ext cx="7696080" cy="114300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209680"/>
            <a:ext cx="1676520" cy="609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33ff"/>
              </a:gs>
              <a:gs pos="100000">
                <a:srgbClr val="1717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2209680"/>
            <a:ext cx="1676520" cy="609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33ff"/>
              </a:gs>
              <a:gs pos="100000">
                <a:srgbClr val="1717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209680"/>
            <a:ext cx="1676160" cy="609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2209680"/>
            <a:ext cx="1676520" cy="609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dex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581280"/>
            <a:ext cx="1752840" cy="838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33ff"/>
              </a:gs>
              <a:gs pos="100000">
                <a:srgbClr val="1717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3581280"/>
            <a:ext cx="1752840" cy="838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33ff"/>
              </a:gs>
              <a:gs pos="100000">
                <a:srgbClr val="1717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581280"/>
            <a:ext cx="1752840" cy="838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581280"/>
            <a:ext cx="1752480" cy="838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8195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819520"/>
            <a:ext cx="75960" cy="761760"/>
          </a:xfrm>
          <a:prstGeom prst="downArrow">
            <a:avLst>
              <a:gd name="adj1" fmla="val 50000"/>
              <a:gd name="adj2" fmla="val 250711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28195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28195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….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…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286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362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….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…..K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+1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….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…K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….K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1055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ch page has 256 ke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981080"/>
            <a:ext cx="106704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81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ub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1981080"/>
            <a:ext cx="1066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1981080"/>
            <a:ext cx="1066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1981080"/>
            <a:ext cx="106704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1981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ub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1981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ub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1981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Sub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LUSTER B-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3623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est wit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sel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luster - Demonst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3623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etter than B-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lower than B-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dex Selectivity (</a:t>
            </a:r>
            <a:r>
              <a:rPr b="1" i="1" lang="en-GB" sz="3200" spc="-1" strike="noStrike">
                <a:solidFill>
                  <a:srgbClr val="000066"/>
                </a:solidFill>
                <a:latin typeface="Arial"/>
              </a:rPr>
              <a:t>IS)</a:t>
            </a:r>
            <a:r>
              <a:rPr b="1" i="1" lang="en-GB" sz="32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828800"/>
            <a:ext cx="8153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=Distinct Records / Total Number of Recor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66"/>
                </a:solidFill>
                <a:latin typeface="Arial"/>
              </a:rPr>
              <a:t>IS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828800"/>
            <a:ext cx="8153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eld with 1000 records and 10 distinct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=0.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lusters available in 4D v11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25909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luster B-tree using Array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luster B-tree using Bit T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luster B-tree using Array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47920" y="1262160"/>
            <a:ext cx="6324480" cy="4681440"/>
            <a:chOff x="1447920" y="1262160"/>
            <a:chExt cx="6324480" cy="4681440"/>
          </a:xfrm>
        </p:grpSpPr>
        <p:sp>
          <p:nvSpPr>
            <p:cNvPr id="154" name=""/>
            <p:cNvSpPr/>
            <p:nvPr/>
          </p:nvSpPr>
          <p:spPr>
            <a:xfrm>
              <a:off x="1447920" y="1262160"/>
              <a:ext cx="6324480" cy="46814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1670040"/>
              <a:ext cx="4692960" cy="814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8840" y="1262160"/>
              <a:ext cx="1224000" cy="406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ndex P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63680" y="1871640"/>
              <a:ext cx="1224000" cy="407880"/>
            </a:xfrm>
            <a:prstGeom prst="rect">
              <a:avLst/>
            </a:pr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B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92520" y="1871640"/>
              <a:ext cx="1224000" cy="40788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9560" y="1871640"/>
              <a:ext cx="1224000" cy="40788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68520" y="2889360"/>
              <a:ext cx="81612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68520" y="3297240"/>
              <a:ext cx="81612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68520" y="3705120"/>
              <a:ext cx="81612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8520" y="4111560"/>
              <a:ext cx="81612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68520" y="4518000"/>
              <a:ext cx="81612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68520" y="4924440"/>
              <a:ext cx="81612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71920" y="2279520"/>
              <a:ext cx="204480" cy="613080"/>
            </a:xfrm>
            <a:prstGeom prst="downArrow">
              <a:avLst>
                <a:gd name="adj1" fmla="val 50000"/>
                <a:gd name="adj2" fmla="val 74956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95560" y="2889360"/>
              <a:ext cx="81612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95560" y="3298680"/>
              <a:ext cx="816120" cy="6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95560" y="3706920"/>
              <a:ext cx="816120" cy="60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95560" y="4113360"/>
              <a:ext cx="816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95560" y="4518000"/>
              <a:ext cx="81612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95560" y="4924440"/>
              <a:ext cx="816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00400" y="2279520"/>
              <a:ext cx="203400" cy="609840"/>
            </a:xfrm>
            <a:prstGeom prst="downArrow">
              <a:avLst>
                <a:gd name="adj1" fmla="val 50000"/>
                <a:gd name="adj2" fmla="val 749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24400" y="2889360"/>
              <a:ext cx="81612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24400" y="3298680"/>
              <a:ext cx="816120" cy="6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4400" y="3706920"/>
              <a:ext cx="816120" cy="60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4400" y="4113360"/>
              <a:ext cx="816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24400" y="4518000"/>
              <a:ext cx="81612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24400" y="4924440"/>
              <a:ext cx="816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27800" y="2279520"/>
              <a:ext cx="203040" cy="604800"/>
            </a:xfrm>
            <a:prstGeom prst="downArrow">
              <a:avLst>
                <a:gd name="adj1" fmla="val 50000"/>
                <a:gd name="adj2" fmla="val 744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luster B-tree Using Bit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920" y="1365120"/>
            <a:ext cx="7696080" cy="4687920"/>
            <a:chOff x="304920" y="1365120"/>
            <a:chExt cx="7696080" cy="4687920"/>
          </a:xfrm>
        </p:grpSpPr>
        <p:sp>
          <p:nvSpPr>
            <p:cNvPr id="183" name=""/>
            <p:cNvSpPr/>
            <p:nvPr/>
          </p:nvSpPr>
          <p:spPr>
            <a:xfrm>
              <a:off x="304920" y="1365120"/>
              <a:ext cx="7696080" cy="468792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5880" y="1866960"/>
              <a:ext cx="6573600" cy="83664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46080" y="2033640"/>
              <a:ext cx="1763640" cy="501480"/>
            </a:xfrm>
            <a:prstGeom prst="rect">
              <a:avLst/>
            </a:pr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B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1240" y="2033640"/>
              <a:ext cx="1763640" cy="50148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35640" y="2033640"/>
              <a:ext cx="1763640" cy="50148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5880" y="1531800"/>
              <a:ext cx="1442880" cy="335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ndex P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5880" y="3541680"/>
              <a:ext cx="2084400" cy="335160"/>
            </a:xfrm>
            <a:prstGeom prst="rect">
              <a:avLst/>
            </a:pr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imes New Roman"/>
                </a:rPr>
                <a:t>Bit 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5880" y="3983040"/>
              <a:ext cx="2084400" cy="167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 0 1 0 1 0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91040" y="3541680"/>
              <a:ext cx="2084400" cy="335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imes New Roman"/>
                </a:rPr>
                <a:t>Bit 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91040" y="3983040"/>
              <a:ext cx="2084400" cy="167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0 0 0 1 0 0 0 0 0 1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95840" y="3541680"/>
              <a:ext cx="2084400" cy="33516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Bit 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95840" y="3983040"/>
              <a:ext cx="2084400" cy="167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0 1 0 0 0 1 0 1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47800" y="2536920"/>
              <a:ext cx="160200" cy="1004760"/>
            </a:xfrm>
            <a:prstGeom prst="downArrow">
              <a:avLst>
                <a:gd name="adj1" fmla="val 50000"/>
                <a:gd name="adj2" fmla="val 156798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000075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52960" y="2536920"/>
              <a:ext cx="160200" cy="1004760"/>
            </a:xfrm>
            <a:prstGeom prst="downArrow">
              <a:avLst>
                <a:gd name="adj1" fmla="val 50000"/>
                <a:gd name="adj2" fmla="val 156798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97560" y="2536920"/>
              <a:ext cx="160560" cy="1004760"/>
            </a:xfrm>
            <a:prstGeom prst="downArrow">
              <a:avLst>
                <a:gd name="adj1" fmla="val 50000"/>
                <a:gd name="adj2" fmla="val 156446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7575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omposite Index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82880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dex on more than one fie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ither on B-tree or/and Cluster B-tree structu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duces the number of queries at the datab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n’t need to maintain compound fiel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Keyword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ild on clust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lpha and text fields.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very word is index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ession Workflow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not to use inde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to use inde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Keyword index option in the Inspector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101760" cy="3505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91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0" y="33004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30492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“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%” and “=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%” - keyword qu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 without keyword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=“ - standard quer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en to NOT u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blems with the structure fi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gmented data and index file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t enough disk and memory sp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en to NOT us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16765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equent changes of the database structu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dundant fiel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all t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dex optimization tip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182880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mit the number of indexes per t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Keep the indexes as narrow as pos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ry creating index on integer field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dex optimization t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luster index - 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or working with sets and rang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-tree index - 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SUM, MAX,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 Etc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2004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y index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6765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a organ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Query spee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rformance incre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6765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abase with no ind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Benefi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peed up the process retrieving data 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([People];[People]Last=”Smith”;*)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([People];&amp;;[People]First=”John”)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Keep in mi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index is set to a table field but never used</a:t>
            </a:r>
            <a:br>
              <a:rPr sz="2500"/>
            </a:b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([People];[People]Email=”@yahoo.com”) 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ding too many indexes can slow the overall performance of a datab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dexes in database system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905120" y="2133720"/>
            <a:ext cx="5562360" cy="4171680"/>
            <a:chOff x="1905120" y="2133720"/>
            <a:chExt cx="5562360" cy="4171680"/>
          </a:xfrm>
        </p:grpSpPr>
        <p:sp>
          <p:nvSpPr>
            <p:cNvPr id="65" name=""/>
            <p:cNvSpPr/>
            <p:nvPr/>
          </p:nvSpPr>
          <p:spPr>
            <a:xfrm>
              <a:off x="1905120" y="2133720"/>
              <a:ext cx="5562360" cy="4171680"/>
            </a:xfrm>
            <a:prstGeom prst="roundRect">
              <a:avLst>
                <a:gd name="adj" fmla="val 37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05120" y="2133720"/>
              <a:ext cx="5560920" cy="247176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5120" y="2751120"/>
              <a:ext cx="5560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68440" y="2287440"/>
              <a:ext cx="4635720" cy="308160"/>
            </a:xfrm>
            <a:prstGeom prst="rect">
              <a:avLst/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Query 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8840" y="2751120"/>
              <a:ext cx="1855800" cy="61920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58840" y="3833640"/>
              <a:ext cx="2318040" cy="61776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94280" y="3833640"/>
              <a:ext cx="1855800" cy="61776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40200" y="3060720"/>
              <a:ext cx="2317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torage 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6200" y="3370320"/>
              <a:ext cx="14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76880" y="4143240"/>
              <a:ext cx="617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14720" y="2906640"/>
              <a:ext cx="15444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ndex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14720" y="3987720"/>
              <a:ext cx="1852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oncurrency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49800" y="3987720"/>
              <a:ext cx="1390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ecov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05120" y="4759200"/>
              <a:ext cx="5560920" cy="619200"/>
            </a:xfrm>
            <a:prstGeom prst="rect">
              <a:avLst/>
            </a:prstGeom>
            <a:gradFill rotWithShape="0">
              <a:gsLst>
                <a:gs pos="0">
                  <a:srgbClr val="5e7546"/>
                </a:gs>
                <a:gs pos="50000">
                  <a:srgbClr val="ccff99"/>
                </a:gs>
                <a:gs pos="100000">
                  <a:srgbClr val="5e75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05120" y="5686560"/>
              <a:ext cx="5560920" cy="618840"/>
            </a:xfrm>
            <a:prstGeom prst="rect">
              <a:avLst/>
            </a:prstGeom>
            <a:gradFill rotWithShape="0">
              <a:gsLst>
                <a:gs pos="0">
                  <a:srgbClr val="004675"/>
                </a:gs>
                <a:gs pos="50000">
                  <a:srgbClr val="0099ff"/>
                </a:gs>
                <a:gs pos="100000">
                  <a:srgbClr val="00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95800" y="4913280"/>
              <a:ext cx="35528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Operat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68440" y="5842080"/>
              <a:ext cx="4789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Hardware (processor, disk, memory)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41720" y="4451400"/>
              <a:ext cx="12366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01720" y="4451400"/>
              <a:ext cx="6210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86480" y="5376960"/>
              <a:ext cx="144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971800" y="25909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dex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n clust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in pointers to blocks that contain the row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order the data blocks  in the same way as th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ymond E. Manley</dc:creator>
  <dc:description/>
  <dc:language>en-US</dc:language>
  <cp:lastModifiedBy>4D</cp:lastModifiedBy>
  <cp:revision>0</cp:revision>
  <dc:subject/>
  <dc:title>No Slide Title</dc:title>
</cp:coreProperties>
</file>