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0BC6-FDB6-4895-BB13-95453E8C0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A950-0886-4A17-9159-DEC156D4F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ch record cre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/filter/query in single, elegent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7AF0-718D-465F-A1B8-E3C78A468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4030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168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6200" y="15235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400" y="15235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4030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6200" y="4030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400" y="4030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391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168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4030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ummit_bkgd-bi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0"/>
          <p:cNvSpPr/>
          <p:nvPr/>
        </p:nvSpPr>
        <p:spPr>
          <a:xfrm>
            <a:off x="26510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eginning SQ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is Visaya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ing Manager/4D, In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ta Typ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027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ta Manipulation Languag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SEL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INS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DEL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ta Manipulation Languag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" name="Content Placeholder 2" descr=""/>
          <p:cNvPicPr/>
          <p:nvPr/>
        </p:nvPicPr>
        <p:blipFill>
          <a:blip r:embed="rId1"/>
          <a:stretch/>
        </p:blipFill>
        <p:spPr>
          <a:xfrm>
            <a:off x="1139760" y="1517760"/>
            <a:ext cx="73216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LEC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of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L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L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143000" y="37339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990720" y="1371600"/>
            <a:ext cx="7315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LEC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$state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=“SELECT * FROM Customer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BEGIN 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EXECUTE IMMEDIATE :$stat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END 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ta Manipulation Languag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Content Placeholder 2" descr=""/>
          <p:cNvPicPr/>
          <p:nvPr/>
        </p:nvPicPr>
        <p:blipFill>
          <a:blip r:embed="rId1"/>
          <a:stretch/>
        </p:blipFill>
        <p:spPr>
          <a:xfrm>
            <a:off x="1139760" y="1517760"/>
            <a:ext cx="73216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PDAT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ify record cont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1143000" y="37339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ta Manipulation Languag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8" name="Content Placeholder 2" descr=""/>
          <p:cNvPicPr/>
          <p:nvPr/>
        </p:nvPicPr>
        <p:blipFill>
          <a:blip r:embed="rId1"/>
          <a:stretch/>
        </p:blipFill>
        <p:spPr>
          <a:xfrm>
            <a:off x="1139760" y="1517760"/>
            <a:ext cx="73216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SE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records to 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1143000" y="37339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ta Manipulation Languag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Content Placeholder 2" descr=""/>
          <p:cNvPicPr/>
          <p:nvPr/>
        </p:nvPicPr>
        <p:blipFill>
          <a:blip r:embed="rId1"/>
          <a:stretch/>
        </p:blipFill>
        <p:spPr>
          <a:xfrm>
            <a:off x="1139760" y="1517760"/>
            <a:ext cx="73216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057400" y="2209680"/>
            <a:ext cx="5257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quel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LET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a gues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2"/>
          <p:cNvSpPr/>
          <p:nvPr/>
        </p:nvSpPr>
        <p:spPr>
          <a:xfrm>
            <a:off x="1143000" y="37339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ta Definition Languag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 Databas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/Drop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/Drop Ind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1143000" y="37339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ULL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Picture 3" descr="Picture 4edited.png"/>
          <p:cNvPicPr/>
          <p:nvPr/>
        </p:nvPicPr>
        <p:blipFill>
          <a:blip r:embed="rId1"/>
          <a:stretch/>
        </p:blipFill>
        <p:spPr>
          <a:xfrm>
            <a:off x="5162400" y="0"/>
            <a:ext cx="7963200" cy="8035920"/>
          </a:xfrm>
          <a:prstGeom prst="rect">
            <a:avLst/>
          </a:prstGeom>
          <a:ln w="0">
            <a:noFill/>
          </a:ln>
        </p:spPr>
      </p:pic>
      <p:sp>
        <p:nvSpPr>
          <p:cNvPr id="102" name="Oval Callout 4"/>
          <p:cNvSpPr/>
          <p:nvPr/>
        </p:nvSpPr>
        <p:spPr>
          <a:xfrm>
            <a:off x="152280" y="3200400"/>
            <a:ext cx="5486400" cy="3048120"/>
          </a:xfrm>
          <a:prstGeom prst="wedgeEllipseCallout">
            <a:avLst>
              <a:gd name="adj1" fmla="val 49152"/>
              <a:gd name="adj2" fmla="val -51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mpossible to read from far away!  My speech exists, but to you it’s unknown!  In other words, the stuff in this speech bubble is like a NULL.  Bwahahahahah, you foolish, delicious humans don’t know what you’re getting yourselves into with these NULL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ULLS – Why?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Picture 3" descr="Picture 4edited.png"/>
          <p:cNvPicPr/>
          <p:nvPr/>
        </p:nvPicPr>
        <p:blipFill>
          <a:blip r:embed="rId1"/>
          <a:stretch/>
        </p:blipFill>
        <p:spPr>
          <a:xfrm flipH="1">
            <a:off x="1066320" y="1905120"/>
            <a:ext cx="392436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Oval Callout 5"/>
          <p:cNvSpPr/>
          <p:nvPr/>
        </p:nvSpPr>
        <p:spPr>
          <a:xfrm>
            <a:off x="5257800" y="1066680"/>
            <a:ext cx="3429000" cy="1752840"/>
          </a:xfrm>
          <a:prstGeom prst="wedgeEllipseCallout">
            <a:avLst>
              <a:gd name="adj1" fmla="val -58462"/>
              <a:gd name="adj2" fmla="val 803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 must be heard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Rounded Rectangle 7"/>
          <p:cNvGrpSpPr/>
          <p:nvPr/>
        </p:nvGrpSpPr>
        <p:grpSpPr>
          <a:xfrm>
            <a:off x="262080" y="2316240"/>
            <a:ext cx="8619840" cy="2146320"/>
            <a:chOff x="262080" y="2316240"/>
            <a:chExt cx="8619840" cy="2146320"/>
          </a:xfrm>
        </p:grpSpPr>
        <p:pic>
          <p:nvPicPr>
            <p:cNvPr id="107" name="Rounded Rectangle 7" descr=""/>
            <p:cNvPicPr/>
            <p:nvPr/>
          </p:nvPicPr>
          <p:blipFill>
            <a:blip r:embed="rId1"/>
            <a:stretch/>
          </p:blipFill>
          <p:spPr>
            <a:xfrm>
              <a:off x="262080" y="2316240"/>
              <a:ext cx="86198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74840" y="2532240"/>
              <a:ext cx="819432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ULLS – Why? Seriously?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2590920"/>
          <a:ext cx="8076960" cy="1562040"/>
        </p:xfrm>
        <a:graphic>
          <a:graphicData uri="http://schemas.openxmlformats.org/drawingml/2006/table">
            <a:tbl>
              <a:tblPr/>
              <a:tblGrid>
                <a:gridCol w="914400"/>
                <a:gridCol w="636480"/>
                <a:gridCol w="725400"/>
                <a:gridCol w="725400"/>
                <a:gridCol w="723960"/>
                <a:gridCol w="725760"/>
                <a:gridCol w="725400"/>
                <a:gridCol w="725400"/>
                <a:gridCol w="723960"/>
                <a:gridCol w="725400"/>
                <a:gridCol w="725400"/>
              </a:tblGrid>
              <a:tr h="780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ystem Tabl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 Databas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synt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lth of In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ystem Tabl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USER_T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USER_COLUM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USER_INDE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USER_IND_COLUM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USER_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USER_CONS_COLUM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1143000" y="525780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QL Pass-Through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5998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USE EXTERNA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USE INTERNA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1371600" y="28195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QL LO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QL LOGO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ontent Placeholder 2" descr=""/>
          <p:cNvPicPr/>
          <p:nvPr/>
        </p:nvPicPr>
        <p:blipFill>
          <a:blip r:embed="rId1"/>
          <a:stretch/>
        </p:blipFill>
        <p:spPr>
          <a:xfrm>
            <a:off x="987480" y="1596960"/>
            <a:ext cx="7321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or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SQL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 4D methods in 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1.3: Sche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ant More?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4d.com/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inning SQL for 4D Developer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1143000" y="37339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hy Use SQL?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ster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hich SQ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L 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L 98 Extensions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801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diagramsql.png"/>
          <p:cNvPicPr/>
          <p:nvPr/>
        </p:nvPicPr>
        <p:blipFill>
          <a:blip r:embed="rId1"/>
          <a:stretch/>
        </p:blipFill>
        <p:spPr>
          <a:xfrm>
            <a:off x="1566720" y="1593720"/>
            <a:ext cx="601056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ethod Editor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" name="Content Placeholder 3" descr="Picture 10.png"/>
          <p:cNvPicPr/>
          <p:nvPr/>
        </p:nvPicPr>
        <p:blipFill>
          <a:blip r:embed="rId1"/>
          <a:stretch/>
        </p:blipFill>
        <p:spPr>
          <a:xfrm>
            <a:off x="1143000" y="3078000"/>
            <a:ext cx="7315200" cy="1692360"/>
          </a:xfrm>
          <a:prstGeom prst="rect">
            <a:avLst/>
          </a:prstGeom>
          <a:ln w="0">
            <a:noFill/>
          </a:ln>
        </p:spPr>
      </p:pic>
      <p:sp>
        <p:nvSpPr>
          <p:cNvPr id="60" name="Content Placeholder 2"/>
          <p:cNvSpPr/>
          <p:nvPr/>
        </p:nvSpPr>
        <p:spPr>
          <a:xfrm>
            <a:off x="1143000" y="152388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QUERY BY SQ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ethod Editor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1600200" y="152388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Begin SQ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End SQ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Picture 11.png"/>
          <p:cNvPicPr/>
          <p:nvPr/>
        </p:nvPicPr>
        <p:blipFill>
          <a:blip r:embed="rId1"/>
          <a:stretch/>
        </p:blipFill>
        <p:spPr>
          <a:xfrm>
            <a:off x="609480" y="3352680"/>
            <a:ext cx="8253360" cy="212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Picture 12.png"/>
          <p:cNvPicPr/>
          <p:nvPr/>
        </p:nvPicPr>
        <p:blipFill>
          <a:blip r:embed="rId2"/>
          <a:stretch/>
        </p:blipFill>
        <p:spPr>
          <a:xfrm>
            <a:off x="5041800" y="3200400"/>
            <a:ext cx="82044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icture 4edited.png"/>
          <p:cNvPicPr/>
          <p:nvPr/>
        </p:nvPicPr>
        <p:blipFill>
          <a:blip r:embed="rId3"/>
          <a:stretch/>
        </p:blipFill>
        <p:spPr>
          <a:xfrm>
            <a:off x="6324480" y="457200"/>
            <a:ext cx="256716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Oval Callout 6"/>
          <p:cNvSpPr/>
          <p:nvPr/>
        </p:nvSpPr>
        <p:spPr>
          <a:xfrm>
            <a:off x="3657600" y="1371600"/>
            <a:ext cx="2971800" cy="1752480"/>
          </a:xfrm>
          <a:prstGeom prst="wedgeEllipseCallout">
            <a:avLst>
              <a:gd name="adj1" fmla="val 44930"/>
              <a:gd name="adj2" fmla="val -4635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te space does not matter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ethod Editor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1143000" y="152388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DBC EXEC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icture 13.png"/>
          <p:cNvPicPr/>
          <p:nvPr/>
        </p:nvPicPr>
        <p:blipFill>
          <a:blip r:embed="rId1"/>
          <a:stretch/>
        </p:blipFill>
        <p:spPr>
          <a:xfrm>
            <a:off x="469800" y="2394000"/>
            <a:ext cx="82044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9:33:11Z</dcterms:created>
  <dc:creator>Raymond E. Manley</dc:creator>
  <dc:description/>
  <dc:language>en-US</dc:language>
  <cp:lastModifiedBy>Chris Visaya</cp:lastModifiedBy>
  <cp:lastPrinted>2000-07-31T21:36:51Z</cp:lastPrinted>
  <dcterms:modified xsi:type="dcterms:W3CDTF">2008-10-05T22:40:47Z</dcterms:modified>
  <cp:revision>85</cp:revision>
  <dc:subject/>
  <dc:title>No Slide Title</dc:title>
</cp:coreProperties>
</file>