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030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168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62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400" y="15235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62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400" y="403092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391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1680" y="40309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52352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03092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ummit_bkgd-bird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0"/>
          <p:cNvSpPr/>
          <p:nvPr/>
        </p:nvSpPr>
        <p:spPr>
          <a:xfrm>
            <a:off x="26510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dobe.com/flex" TargetMode="External"/><Relationship Id="rId2" Type="http://schemas.openxmlformats.org/officeDocument/2006/relationships/hyperlink" Target="http://www.flex.org/" TargetMode="External"/><Relationship Id="rId3" Type="http://schemas.openxmlformats.org/officeDocument/2006/relationships/hyperlink" Target="http://www.4d.com/products/4dweb20pack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D for Flex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 Kauf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D, I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fferent Browsers, Same Result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276960" y="1017720"/>
            <a:ext cx="1827360" cy="192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4240" y="2244600"/>
            <a:ext cx="1982880" cy="191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89240" y="4340160"/>
            <a:ext cx="2197440" cy="219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54280" y="1714680"/>
            <a:ext cx="1660680" cy="20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4840" y="2143080"/>
            <a:ext cx="117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W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4840" y="2894040"/>
            <a:ext cx="128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1010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011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108400" y="2036880"/>
            <a:ext cx="1231920" cy="480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42760" y="2679840"/>
            <a:ext cx="1017720" cy="214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589200"/>
            <a:ext cx="214200" cy="1125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947000" cy="430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lex SDK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4800" y="1179360"/>
            <a:ext cx="72691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, 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with text editor and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25760" y="911160"/>
            <a:ext cx="7286400" cy="5434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76320"/>
            <a:ext cx="43005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lex Builder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221472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nient Hybrid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2840" y="1523880"/>
            <a:ext cx="5950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X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-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 ta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,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4267080"/>
            <a:ext cx="5303880" cy="1232640"/>
          </a:xfrm>
          <a:prstGeom prst="rect">
            <a:avLst/>
          </a:prstGeom>
          <a:solidFill>
            <a:srgbClr val="00f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mx:State name=“offlin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mx:RemoveChild target="{formBox}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/mx:St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nient Hybrid Languag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crip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-rel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typed 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object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038480"/>
            <a:ext cx="4876920" cy="161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rivate function init():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race("In init()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urDSQLService.conn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lex Component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238560" cy="221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4120" y="1747800"/>
            <a:ext cx="26604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yout Flow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2320" y="335124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verything Is an Objec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onScript is object-ori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 compiler converts MXML elements to ActionScript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276720"/>
            <a:ext cx="175284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921200"/>
            <a:ext cx="160020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921200"/>
            <a:ext cx="1752840" cy="119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71800" y="441936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8000" y="3886200"/>
            <a:ext cx="1447920" cy="1447920"/>
            <a:chOff x="6858000" y="3886200"/>
            <a:chExt cx="1447920" cy="1447920"/>
          </a:xfrm>
        </p:grpSpPr>
        <p:sp>
          <p:nvSpPr>
            <p:cNvPr id="109" name=""/>
            <p:cNvSpPr/>
            <p:nvPr/>
          </p:nvSpPr>
          <p:spPr>
            <a:xfrm>
              <a:off x="6858000" y="3886200"/>
              <a:ext cx="1447920" cy="1447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my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5486400" y="4800600"/>
            <a:ext cx="14479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OP: Class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4419720"/>
            <a:ext cx="716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vent Handling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dispatches certai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sponse to user or system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are objects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3868560"/>
            <a:ext cx="731520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Early Web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71600" y="1523880"/>
            <a:ext cx="6477120" cy="4251600"/>
            <a:chOff x="1371600" y="1523880"/>
            <a:chExt cx="6477120" cy="4251600"/>
          </a:xfrm>
        </p:grpSpPr>
        <p:pic>
          <p:nvPicPr>
            <p:cNvPr id="44" name="Rectangle 39" descr=""/>
            <p:cNvPicPr/>
            <p:nvPr/>
          </p:nvPicPr>
          <p:blipFill>
            <a:blip r:embed="rId1"/>
            <a:stretch/>
          </p:blipFill>
          <p:spPr>
            <a:xfrm>
              <a:off x="1371600" y="1523880"/>
              <a:ext cx="647712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371600" y="1523880"/>
              <a:ext cx="6477120" cy="42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 Binding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tination object listens for changes in sourc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property copied to the destination prop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733920" cy="2000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x:TextInput id=“username"&gt;&lt;/mx:TextIn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x:Label text=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username.text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&gt;&lt;/mx:Labe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easy change of view or applicatio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tes “based on” base state or oth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67057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8120" y="3200400"/>
            <a:ext cx="4647960" cy="2895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necting to 4D: HTTP Approach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4440" y="1660320"/>
            <a:ext cx="73580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 Web Server can serve Flex (SWF)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standard &lt;mx:HTTPservice&gt;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amiliar approach to web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9000" y="3697200"/>
            <a:ext cx="1554120" cy="203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51000" y="4125960"/>
            <a:ext cx="123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Pres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1000" y="4929120"/>
            <a:ext cx="1123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Flex User 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2080" y="3697200"/>
            <a:ext cx="1554120" cy="203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94080" y="4017960"/>
            <a:ext cx="1231920" cy="45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Business Lay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4080" y="4929120"/>
            <a:ext cx="1231920" cy="59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4D Web Server, XML, 4D Metho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37160" y="3697200"/>
            <a:ext cx="1552680" cy="2035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57920" y="4017960"/>
            <a:ext cx="911160" cy="45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Data Lay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97360" y="5003640"/>
            <a:ext cx="1231920" cy="39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4D Data, 4D metho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724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724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078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TTP Approach Drawback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erver-side programming requi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eeds to be exchanged in a certain format (usually XML) and par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suffers from large amounts of data trans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3124080"/>
            <a:ext cx="4419720" cy="289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D for Flex:  SQL Protoco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ocket connection to 4D’s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SQL protocol implemented in Actio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SQL queries in your Flex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9000" y="3697200"/>
            <a:ext cx="1554120" cy="203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1000" y="4125960"/>
            <a:ext cx="123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Pres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4680" y="4929120"/>
            <a:ext cx="1339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Flex UI Objects (mostly MXM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2080" y="3697200"/>
            <a:ext cx="1554120" cy="203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94080" y="4017960"/>
            <a:ext cx="1231920" cy="45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Business Lay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94080" y="4938840"/>
            <a:ext cx="1231920" cy="5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lex App Logic Objects (mostly ActionScri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37160" y="3697200"/>
            <a:ext cx="1552680" cy="2035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920" y="4017960"/>
            <a:ext cx="911160" cy="45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Data Lay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97360" y="5003640"/>
            <a:ext cx="1231920" cy="39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4D Data/4D SQL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724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7242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048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D for Flex Benefit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erver-side code or X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 data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ed data used as a dataProvider for Flex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QL Connection Drawback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database structure to write que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ed mode, as opposed to HTTP, can make WAN or Wi-Fi traffic more frag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listens to a port other than the HTTP standard (80); may need to open in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D for Flex Component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9960" y="1368360"/>
            <a:ext cx="589284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QLService Clas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server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es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QLResultSet Clas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lds data set from a 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data manipulation (insert, update, dele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eb Application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19320" y="1523880"/>
            <a:ext cx="6933960" cy="4189680"/>
            <a:chOff x="1219320" y="1523880"/>
            <a:chExt cx="6933960" cy="4189680"/>
          </a:xfrm>
        </p:grpSpPr>
        <p:pic>
          <p:nvPicPr>
            <p:cNvPr id="48" name="Rectangle 39" descr=""/>
            <p:cNvPicPr/>
            <p:nvPr/>
          </p:nvPicPr>
          <p:blipFill>
            <a:blip r:embed="rId1"/>
            <a:stretch/>
          </p:blipFill>
          <p:spPr>
            <a:xfrm>
              <a:off x="1219320" y="1523880"/>
              <a:ext cx="6933960" cy="41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1219320" y="1523880"/>
              <a:ext cx="6933960" cy="418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ataGrid Clas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15238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column data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s allow custom rend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2797200"/>
            <a:ext cx="4419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 Application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lanner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0640" y="2341440"/>
            <a:ext cx="6210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ore Inf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adobe.com/f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flex.org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4d.com/products/4dweb20pac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1143000" y="4191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ich Internet Applications (RIA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1290600"/>
            <a:ext cx="6858000" cy="4500720"/>
            <a:chOff x="1219320" y="1290600"/>
            <a:chExt cx="6858000" cy="4500720"/>
          </a:xfrm>
        </p:grpSpPr>
        <p:pic>
          <p:nvPicPr>
            <p:cNvPr id="52" name="Rectangle 39" descr=""/>
            <p:cNvPicPr/>
            <p:nvPr/>
          </p:nvPicPr>
          <p:blipFill>
            <a:blip r:embed="rId1"/>
            <a:stretch/>
          </p:blipFill>
          <p:spPr>
            <a:xfrm>
              <a:off x="1219320" y="1290600"/>
              <a:ext cx="6858000" cy="45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1219320" y="1290600"/>
              <a:ext cx="6858000" cy="45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lash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media introduced in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ny since acquired by Ad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-oriente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ch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tion-styl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62440" y="3276720"/>
            <a:ext cx="24004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3960" y="565200"/>
            <a:ext cx="6981840" cy="5843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080" y="339480"/>
            <a:ext cx="73580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Why 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lex?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200" y="2839680"/>
            <a:ext cx="35546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eign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4040" y="1822320"/>
            <a:ext cx="96372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11200" y="696960"/>
            <a:ext cx="7554960" cy="5367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1017360" cy="1017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499680"/>
            <a:ext cx="735804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Why 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lex?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280" y="2972880"/>
            <a:ext cx="37497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wor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ar t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lex Is Flash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1523520"/>
            <a:ext cx="4190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F 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in Flash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3240" y="322200"/>
            <a:ext cx="455472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jax vs Flex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: Standard Web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: Proprietary platform, richer present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2117880" cy="2381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181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6:57:35Z</dcterms:created>
  <dc:creator>Raymond E. Manley</dc:creator>
  <dc:description/>
  <dc:language>en-US</dc:language>
  <cp:lastModifiedBy>timkman</cp:lastModifiedBy>
  <cp:lastPrinted>2000-07-31T21:36:51Z</cp:lastPrinted>
  <dcterms:modified xsi:type="dcterms:W3CDTF">2008-10-03T01:22:37Z</dcterms:modified>
  <cp:revision>86</cp:revision>
  <dc:subject/>
  <dc:title>No Slide Title</dc:title>
</cp:coreProperties>
</file>